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A1F-D20A-44B7-AAE5-AB2F7FEF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493-80D2-4F04-9C59-6D7D9A91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8B0-6BAD-41C2-8E16-6E5F2072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E3D-4C48-45A1-8B40-4B8A228A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E0664-D33D-499B-9152-F1FC3288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FA84B-8382-4A49-88A2-FAD86F5F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8CCDF-BF6E-4C19-9FE8-6A88B888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CBB69-730E-4B8F-A90F-2F53661B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1643D-4874-4E39-A67A-57A5D877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8E7D4-1A51-4429-BB83-2B79FC1D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0C90E-B5A6-4C69-8CE4-46C4820A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05F-6DBF-4D89-9E76-D418B2E0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983A5-186D-42E4-90DC-EDF3F873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D2492-51A0-48C4-9193-7157A9D8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5B371-2057-44EA-AED3-84ED1077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B1B01-FE83-4DE4-8F7F-09CC1456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1EA37-1039-4F9B-8953-D2D1E8AE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343-3DB2-432C-BBBD-9CE2C260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6ED-C2B8-4015-8AE0-5A395B67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3C2-BD32-4EA9-96DC-4ACE398E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C83-A4B3-4379-A961-43FCBC5A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233-421D-45FC-A357-7988E2A7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536-3751-442E-94D9-31B2F3EF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BDF-7823-4FD7-8742-8FAA2E4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1858-AC47-470B-A14B-82D1BDF5CA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1775-E090-4978-9158-227F4BDDC33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4.bp.blogspot.com/_uheNlUAGBA8/Sd0B2D2AG7I/AAAAAAAAAoY/Me2qrEf6ZeA/s1600-h/chincha+cera.jpg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Snap ITC"/>
              </a:rPr>
              <a:t>CULTURAS PREHISPÁNICAS DEL PERÚ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Snap ITC"/>
              </a:rPr>
              <a:t>CHINCH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24000" y="5229360"/>
            <a:ext cx="38480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. Elizabeth ESPINO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p41-2"/>
          <p:cNvPicPr/>
          <p:nvPr/>
        </p:nvPicPr>
        <p:blipFill>
          <a:blip r:embed="rId1"/>
          <a:stretch/>
        </p:blipFill>
        <p:spPr>
          <a:xfrm>
            <a:off x="1116000" y="3573360"/>
            <a:ext cx="2106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rquitectura Chinch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struían ciudadelas amuralladas con adobes y decoraciones en los mu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culturas-chimu-chincha_image012"/>
          <p:cNvPicPr/>
          <p:nvPr/>
        </p:nvPicPr>
        <p:blipFill>
          <a:blip r:embed="rId1"/>
          <a:stretch/>
        </p:blipFill>
        <p:spPr>
          <a:xfrm>
            <a:off x="468360" y="1916280"/>
            <a:ext cx="4189320" cy="271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fudachi1"/>
          <p:cNvPicPr/>
          <p:nvPr/>
        </p:nvPicPr>
        <p:blipFill>
          <a:blip r:embed="rId2"/>
          <a:stretch/>
        </p:blipFill>
        <p:spPr>
          <a:xfrm>
            <a:off x="1042920" y="4653000"/>
            <a:ext cx="3024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Cerámica Chinch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0" y="2060640"/>
            <a:ext cx="45720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ncilla, con decoraciones geométricas y figuras estiliz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Formas: cántaros, vasijas con asas, platos, vasos de boca anch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chincha+cera+3"/>
          <p:cNvPicPr/>
          <p:nvPr/>
        </p:nvPicPr>
        <p:blipFill>
          <a:blip r:embed="rId1"/>
          <a:stretch/>
        </p:blipFill>
        <p:spPr>
          <a:xfrm>
            <a:off x="395280" y="1484280"/>
            <a:ext cx="2616120" cy="257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chincha+ce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2349360"/>
            <a:ext cx="1565280" cy="211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icachincha_1"/>
          <p:cNvPicPr/>
          <p:nvPr/>
        </p:nvPicPr>
        <p:blipFill>
          <a:blip r:embed="rId4"/>
          <a:stretch/>
        </p:blipFill>
        <p:spPr>
          <a:xfrm>
            <a:off x="755640" y="400536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Cultura+Chincha+-+Ceramica+2"/>
          <p:cNvPicPr/>
          <p:nvPr/>
        </p:nvPicPr>
        <p:blipFill>
          <a:blip r:embed="rId5"/>
          <a:stretch/>
        </p:blipFill>
        <p:spPr>
          <a:xfrm>
            <a:off x="2268360" y="4508640"/>
            <a:ext cx="14479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Religión Chinch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rincipales dio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hinchaycámac (= dios cread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Urpiwachay (= diosa de los pec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20080605klphishpe_52_Ies_SCO"/>
          <p:cNvPicPr/>
          <p:nvPr/>
        </p:nvPicPr>
        <p:blipFill>
          <a:blip r:embed="rId1"/>
          <a:stretch/>
        </p:blipFill>
        <p:spPr>
          <a:xfrm>
            <a:off x="4525920" y="1628640"/>
            <a:ext cx="2133720" cy="313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7383504817594019"/>
          <p:cNvPicPr/>
          <p:nvPr/>
        </p:nvPicPr>
        <p:blipFill>
          <a:blip r:embed="rId2"/>
          <a:stretch/>
        </p:blipFill>
        <p:spPr>
          <a:xfrm>
            <a:off x="6659640" y="3716280"/>
            <a:ext cx="20797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273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entro: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ca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(Costa Su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iudades importantes: Tambo de Mora / Huaca Centin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Mapa+de+cultura+Chincha+1"/>
          <p:cNvPicPr/>
          <p:nvPr/>
        </p:nvPicPr>
        <p:blipFill>
          <a:blip r:embed="rId1"/>
          <a:stretch/>
        </p:blipFill>
        <p:spPr>
          <a:xfrm>
            <a:off x="5940360" y="1700280"/>
            <a:ext cx="2457360" cy="3495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chincha"/>
          <p:cNvPicPr/>
          <p:nvPr/>
        </p:nvPicPr>
        <p:blipFill>
          <a:blip r:embed="rId2"/>
          <a:stretch/>
        </p:blipFill>
        <p:spPr>
          <a:xfrm>
            <a:off x="3995640" y="4221000"/>
            <a:ext cx="2433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e desarrollaron en el periodo llamado INTERMEDIO TARDÍO, luego de la desaparición del Imperio Wari u Horizonte Medi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xistieron al mismo tiempo que: Chimú, Chachapoyas, Cajamarca, Reinos Aymaras, Chancas y Reino del Cuz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Mapa"/>
          <p:cNvPicPr/>
          <p:nvPr/>
        </p:nvPicPr>
        <p:blipFill>
          <a:blip r:embed="rId1"/>
          <a:stretch/>
        </p:blipFill>
        <p:spPr>
          <a:xfrm>
            <a:off x="4643280" y="1628640"/>
            <a:ext cx="408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Económ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xcelent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navegantes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contaban con una flota de balsas, con las que intercambiaban productos a lo largo de la costa del Pacífico (hasta otros país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8" descr="balsa"/>
          <p:cNvPicPr/>
          <p:nvPr/>
        </p:nvPicPr>
        <p:blipFill>
          <a:blip r:embed="rId1"/>
          <a:stretch/>
        </p:blipFill>
        <p:spPr>
          <a:xfrm>
            <a:off x="539640" y="2421000"/>
            <a:ext cx="3810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Comercio internacion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4437000"/>
            <a:ext cx="793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Productos: conchas mullu (</a:t>
            </a: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spondylus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), esmeraldas, oro, charqui, cobre, pescado seco, sal, tejidos, ceramios, maíz, coca, ají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8" descr="mullu"/>
          <p:cNvPicPr/>
          <p:nvPr/>
        </p:nvPicPr>
        <p:blipFill>
          <a:blip r:embed="rId1"/>
          <a:stretch/>
        </p:blipFill>
        <p:spPr>
          <a:xfrm>
            <a:off x="755640" y="1484280"/>
            <a:ext cx="1631880" cy="141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er%C3%A1mica_de_Chincha"/>
          <p:cNvPicPr/>
          <p:nvPr/>
        </p:nvPicPr>
        <p:blipFill>
          <a:blip r:embed="rId2"/>
          <a:stretch/>
        </p:blipFill>
        <p:spPr>
          <a:xfrm>
            <a:off x="6300720" y="2852640"/>
            <a:ext cx="1093680" cy="14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019-chincha-kultur-metallmasken"/>
          <p:cNvPicPr/>
          <p:nvPr/>
        </p:nvPicPr>
        <p:blipFill>
          <a:blip r:embed="rId3"/>
          <a:stretch/>
        </p:blipFill>
        <p:spPr>
          <a:xfrm>
            <a:off x="2484360" y="2924280"/>
            <a:ext cx="2016360" cy="130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esmeraldas%20aguamarinas%20y%20morganitas"/>
          <p:cNvPicPr/>
          <p:nvPr/>
        </p:nvPicPr>
        <p:blipFill>
          <a:blip r:embed="rId4"/>
          <a:stretch/>
        </p:blipFill>
        <p:spPr>
          <a:xfrm>
            <a:off x="2411280" y="1628640"/>
            <a:ext cx="1616040" cy="1309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(377)cobre"/>
          <p:cNvPicPr/>
          <p:nvPr/>
        </p:nvPicPr>
        <p:blipFill>
          <a:blip r:embed="rId5"/>
          <a:stretch/>
        </p:blipFill>
        <p:spPr>
          <a:xfrm>
            <a:off x="7667640" y="1628640"/>
            <a:ext cx="1114560" cy="111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2324085546_c2925e0d53"/>
          <p:cNvPicPr/>
          <p:nvPr/>
        </p:nvPicPr>
        <p:blipFill>
          <a:blip r:embed="rId6"/>
          <a:stretch/>
        </p:blipFill>
        <p:spPr>
          <a:xfrm>
            <a:off x="4067280" y="1484280"/>
            <a:ext cx="2023920" cy="1517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045-kunsthandwerk-webereien-pullover"/>
          <p:cNvPicPr/>
          <p:nvPr/>
        </p:nvPicPr>
        <p:blipFill>
          <a:blip r:embed="rId7"/>
          <a:stretch/>
        </p:blipFill>
        <p:spPr>
          <a:xfrm>
            <a:off x="4500720" y="2997360"/>
            <a:ext cx="1755720" cy="131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hojas_de_coca"/>
          <p:cNvPicPr/>
          <p:nvPr/>
        </p:nvPicPr>
        <p:blipFill>
          <a:blip r:embed="rId8"/>
          <a:stretch/>
        </p:blipFill>
        <p:spPr>
          <a:xfrm>
            <a:off x="6012000" y="1484280"/>
            <a:ext cx="1780920" cy="13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maiz-colores"/>
          <p:cNvPicPr/>
          <p:nvPr/>
        </p:nvPicPr>
        <p:blipFill>
          <a:blip r:embed="rId9"/>
          <a:stretch/>
        </p:blipFill>
        <p:spPr>
          <a:xfrm>
            <a:off x="468360" y="2924280"/>
            <a:ext cx="201600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Aj%C3%AD+peruano"/>
          <p:cNvPicPr/>
          <p:nvPr/>
        </p:nvPicPr>
        <p:blipFill>
          <a:blip r:embed="rId10"/>
          <a:stretch/>
        </p:blipFill>
        <p:spPr>
          <a:xfrm>
            <a:off x="7380360" y="2852640"/>
            <a:ext cx="100944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ullu"/>
          <p:cNvPicPr/>
          <p:nvPr/>
        </p:nvPicPr>
        <p:blipFill>
          <a:blip r:embed="rId1"/>
          <a:stretch/>
        </p:blipFill>
        <p:spPr>
          <a:xfrm>
            <a:off x="1187280" y="1052640"/>
            <a:ext cx="3935520" cy="4851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156360" y="3011400"/>
            <a:ext cx="12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508720" y="1484280"/>
            <a:ext cx="32400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mercio internacional: triángulo Altiplano Bolivia – Colombia/Ecuador – Costa Sur Per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20080605klphishpe_53_Ies_SCO"/>
          <p:cNvPicPr/>
          <p:nvPr/>
        </p:nvPicPr>
        <p:blipFill>
          <a:blip r:embed="rId2"/>
          <a:stretch/>
        </p:blipFill>
        <p:spPr>
          <a:xfrm>
            <a:off x="5867280" y="3860640"/>
            <a:ext cx="25704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So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Es la cultura co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ayor proporción de pescadores y comerciantes en el Antiguo Perú: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20% comerciantes, 33% pescadores, 7% artesanos y sólo 40% agricult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ABTO001"/>
          <p:cNvPicPr/>
          <p:nvPr/>
        </p:nvPicPr>
        <p:blipFill>
          <a:blip r:embed="rId1"/>
          <a:stretch/>
        </p:blipFill>
        <p:spPr>
          <a:xfrm>
            <a:off x="5508720" y="4076640"/>
            <a:ext cx="2801880" cy="2136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titicaca"/>
          <p:cNvPicPr/>
          <p:nvPr/>
        </p:nvPicPr>
        <p:blipFill>
          <a:blip r:embed="rId2"/>
          <a:stretch/>
        </p:blipFill>
        <p:spPr>
          <a:xfrm>
            <a:off x="2843280" y="4724280"/>
            <a:ext cx="2657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Polí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u máximo gobernante era llamado Chinchaycápa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Fueron incorporados al Imperio Inca por Pachacútec (Siglo XV d.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bido a la riqueza de sus mercaderes y a que no ofrecieron resistencia al ejército incaico, su líder era el único que podía ser llevado en andas y entraba después del Inca a las ceremonias públ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00040" y="28584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Polí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Aspecto Cultural: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Esculturas en made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allaban hermosos remos en madera, con diseños marinos (peces, aves guaneras, crustáce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8" descr="chincha4"/>
          <p:cNvPicPr/>
          <p:nvPr/>
        </p:nvPicPr>
        <p:blipFill>
          <a:blip r:embed="rId1"/>
          <a:stretch/>
        </p:blipFill>
        <p:spPr>
          <a:xfrm>
            <a:off x="6227640" y="1844640"/>
            <a:ext cx="2198880" cy="22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000000f0"/>
          <p:cNvPicPr/>
          <p:nvPr/>
        </p:nvPicPr>
        <p:blipFill>
          <a:blip r:embed="rId2"/>
          <a:stretch/>
        </p:blipFill>
        <p:spPr>
          <a:xfrm>
            <a:off x="4500720" y="2349360"/>
            <a:ext cx="1776240" cy="269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f_tall1"/>
          <p:cNvPicPr/>
          <p:nvPr/>
        </p:nvPicPr>
        <p:blipFill>
          <a:blip r:embed="rId3"/>
          <a:stretch/>
        </p:blipFill>
        <p:spPr>
          <a:xfrm>
            <a:off x="6372360" y="4149720"/>
            <a:ext cx="17269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1:27:16Z</dcterms:created>
  <dc:creator>Beautiful Lia</dc:creator>
  <dc:description/>
  <dc:language>en-US</dc:language>
  <cp:lastModifiedBy>ELIZABETH</cp:lastModifiedBy>
  <dcterms:modified xsi:type="dcterms:W3CDTF">2009-11-11T22:17:22Z</dcterms:modified>
  <cp:revision>33</cp:revision>
  <dc:subject/>
  <dc:title>CULTURAS PREHISPÁNICAS DEL PERÚ  CHINCHA</dc:title>
</cp:coreProperties>
</file>